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20E-827F-4E9C-9971-0BBB4C4B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A60-B3C4-4920-B484-7E5E8618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D64-99F9-4B7E-AB8A-AFC58DDC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D7D-B19E-4053-A75B-36E92A65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8A3-BC01-42DC-ACC4-8C2A3225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23D-2653-49C1-B789-69D60F1A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454-FEEE-4AC7-BF21-C36C4E29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3D4-E5B8-48FB-9D47-E1312195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CB5-0A6B-4C7F-BF90-A6AA10FE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56F-754B-4A4B-9136-E317750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85D-EFE6-4E1D-9B00-8CE631E9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3B8-C5C3-4880-8D59-E4CD266B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89CC-1DCC-4EEF-87A2-0010F51741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亚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哈利路亚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6:11Z</dcterms:modified>
  <cp:revision>7</cp:revision>
  <dc:subject/>
  <dc:title>幻灯片 1</dc:title>
</cp:coreProperties>
</file>