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E71-97B7-4640-9D2F-CE66920B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EAF-C775-49FA-B470-88A3D61C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B8B-7C00-4712-B118-C931B14A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F9D-BB2E-4100-B3BE-7754D464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DC8-ACFE-4DA4-BA5E-6FF8771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573-A6E4-4A73-81AE-53025AE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D37-B786-46D3-A8AC-934FF5F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16A-428E-43BD-95E6-92F8C05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478-60DC-43CE-A121-13FC53E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909-B1B3-463A-BD9B-6723C39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667-783D-47BE-8B5C-AEFFA5FA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277-1390-4180-93C9-89A39155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28A7E6E-B23C-4E68-A485-66FC56616F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548640"/>
            <a:ext cx="9149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712600"/>
            <a:ext cx="91443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5640" y="2205360"/>
            <a:ext cx="91245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MY HEART CALLS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720" y="261000"/>
            <a:ext cx="91443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you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261000"/>
            <a:ext cx="914364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I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152280"/>
            <a:ext cx="914364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45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 I've beheld your handsome f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your skin like ivory and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You have healed my changing he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Now it beats as one with you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007400" y="6381000"/>
            <a:ext cx="2136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152280"/>
            <a:ext cx="914364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Has my heart been set afi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it's forged a love to end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 can rest my wandering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O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my glorious beautiful gr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-5040" y="405000"/>
            <a:ext cx="91486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-7560" y="981000"/>
            <a:ext cx="91504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舒拉密女你回來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, my bride, O Shulamite, my bri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! 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6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  <Words>5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42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