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2764-53A2-4AAD-956A-CA471466E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A631-A4BA-4940-890D-99B3F0F50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44DF-B33C-45C4-B06F-8CB329C14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DF7B-47F1-4DFA-BC1B-200E05529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2640-3078-4F41-AD32-CE00ECF94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2729-423C-408F-BEAD-6FDD91EF4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E6BA-CECB-4F30-9A68-8FC9946E1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36D4-6A4D-45C2-BF85-9FD6A8357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467E-7919-48E6-8F3F-E843BFA77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2EC8-7DD1-49DB-ACA1-736CD994C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EA6B-5524-4FE0-A435-A1636600F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8A88-3C6D-4AB1-A6E6-BADD07384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D1CF4-E8FA-4238-BC64-263EAB39868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因此我爱你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/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1" descr="E:\music\诗歌\PPT\2\盟约\因此我爱你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因此我爱你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/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1" descr="E:\music\诗歌\PPT\2\盟约\因此我爱你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因此我爱你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/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1" descr="E:\music\诗歌\PPT\2\盟约\因此我爱你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06:12:06Z</dcterms:created>
  <dc:creator>YYC</dc:creator>
  <dc:description/>
  <dc:language>en-US</dc:language>
  <cp:lastModifiedBy>微软用户</cp:lastModifiedBy>
  <dcterms:modified xsi:type="dcterms:W3CDTF">2010-06-13T14:33:23Z</dcterms:modified>
  <cp:revision>4</cp:revision>
  <dc:subject/>
  <dc:title>幻灯片 1</dc:title>
</cp:coreProperties>
</file>