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CB5-2CC0-4A3E-BF78-C7A8C8CB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DD6-A4F8-4ACB-A153-6A1701F0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BB2-E689-4214-BED6-E4B85250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54F-3116-4E7F-BF7D-7C187DAE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9D4-604D-46CC-8106-1403F918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9E5-BE68-4EB9-910B-9340E4B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4A0-FE71-4975-A607-2B325B18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D10-E1CF-430B-BFB0-69F5C574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E11-B7E5-4654-8989-6B1A7D6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862-005F-4082-B82A-6EAC7E85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504-A8CE-4823-A898-BA56062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505-1ABC-4A10-844E-8D605CD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6C7C-134E-4979-9093-48D79285A5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她的新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她的新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她的新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她的新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46Z</dcterms:modified>
  <cp:revision>4</cp:revision>
  <dc:subject/>
  <dc:title>幻灯片 1</dc:title>
</cp:coreProperties>
</file>