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彌賽亞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彌賽亞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彌賽亞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-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彌賽亞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-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09:32Z</dcterms:modified>
  <cp:revision>17</cp:revision>
  <dc:subject/>
  <dc:title>彌賽亞</dc:title>
</cp:coreProperties>
</file>