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nointed One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nointed On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nointed One C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nointed One C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3:55Z</dcterms:modified>
  <cp:revision>15</cp:revision>
  <dc:subject/>
  <dc:title>彌賽亞 Anointed One</dc:title>
</cp:coreProperties>
</file>