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C8B-3E6B-4635-924F-4847FBFA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633-D2FB-4778-86CC-121F5AC4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86A-9D11-4EEA-A41E-14732A79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5B3-030E-4E7A-BA56-FD031369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959-9100-426B-82DC-0286E3D9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E27-532F-4CE8-9C2A-14CF30EE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525-41D1-4820-BA7D-873A2491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21F-BF82-45FB-BBAA-B2E57179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386-1CB9-4E95-9094-EEE901E7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42C-3FE0-46CF-A2E3-B818DBF3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D1E-E6A8-497A-9B06-68707C6A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22C-6AC1-4B0A-9CEF-66FEB56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F98F-E73A-41C9-8182-73974AC1EF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0:34Z</dcterms:modified>
  <cp:revision>5</cp:revision>
  <dc:subject/>
  <dc:title>幻灯片 1</dc:title>
</cp:coreProperties>
</file>