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愛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愛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愛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5:05:47Z</dcterms:modified>
  <cp:revision>19</cp:revision>
  <dc:subject/>
  <dc:title>愛你</dc:title>
</cp:coreProperties>
</file>