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C41-7458-420F-9149-B8F60B19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06E-5843-4387-80BA-335D15F5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40A-30D9-4FE5-AB35-73E33D8A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73C-22DD-4831-AF8D-DC8FFD96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46D-B083-43C3-BFFA-B5B08A28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6EF-0A8B-4C83-AC99-8BDF5183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994-2D9C-43AE-B4A0-B9D2DCAF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A5B-50FE-428E-AA33-E9E489F7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833-EF45-477B-87D0-A6382A8C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37E-9A8C-4605-9D4D-0F339FEE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0914-2784-4387-8049-AD7A7A4E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7AA9-FE77-4F10-A39F-90558F68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4FEE-999D-4349-9228-E1DED1D67A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们来赞美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们来赞美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们来赞美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我们来赞美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4:33Z</dcterms:modified>
  <cp:revision>4</cp:revision>
  <dc:subject/>
  <dc:title>幻灯片 1</dc:title>
</cp:coreProperties>
</file>