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1215-B5F1-43A8-BD38-9721113F3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523C-0381-4D16-ACD6-51A296EBB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676B-E235-41F1-BB1D-4CB826D08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CC4B-168C-42F1-907F-BD41F0CD5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7820-3B33-47C4-AF6F-6C9AA8839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m_itstim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_itstim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m_itstim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_itstime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21Z</dcterms:modified>
  <cp:revision>62</cp:revision>
  <dc:subject/>
  <dc:title>我們來讚美主</dc:title>
</cp:coreProperties>
</file>