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776-1DAD-40A4-A2A9-6E550EBD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6F9B-4F96-41B8-A2E6-E61DC7B5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442-2E24-4F32-A52D-6246F4DB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25A-2E3D-4B94-ACC1-76DA95B7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36FA-5C07-46A3-A8B5-6D2FEF46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8Z</dcterms:modified>
  <cp:revision>62</cp:revision>
  <dc:subject/>
  <dc:title>我們來讚美主 It’s Time To Praise The Lord </dc:title>
</cp:coreProperties>
</file>