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1741-096D-4C0F-BCF2-05EB341FB9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4D74-84D1-421B-B9C3-C6095E168A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ECF-5209-4203-A9E7-58235B0E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FD0-10A8-49BD-ABF3-9346F951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F42-179B-4A87-AA86-1B07ADDC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CE3-DCA6-4FEF-BB02-DC1CF359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F52-5AB9-408D-AC64-CA98537B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23C-8679-49A6-A0E9-81F2A155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F71-F981-4F31-AE30-700BE396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2AB-C7D7-453F-B17F-F1DC19FB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AE3-9115-48AB-B0F9-0038327B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525-C4C2-436E-8421-4C8BFDD8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F04-EAC7-4069-AE53-C3C6D81D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93F-DF32-4182-8B7C-8D1797C1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0674-7E43-42CF-8D53-3A531090B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我獻上自己 (主,我願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我獻上自己 (主,我願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我獻上自己 (主,我願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E:\圣洁活祭\简体\我獻上自己 (主,我願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獻上自己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E:\圣洁活祭\简体\我獻上自己 (主,我願)\我獻上自己 (主,我願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YC</dc:creator>
  <dc:description/>
  <dc:language>en-US</dc:language>
  <cp:lastModifiedBy>微软中国</cp:lastModifiedBy>
  <dcterms:modified xsi:type="dcterms:W3CDTF">2011-03-23T05:10:0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