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382-157C-4BD2-97BA-E936D247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A02-F095-4E2D-A35B-1BEFF70C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4E3E-ECCC-4C71-9A34-14DCFD4C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716-2353-42E0-B205-F78EB6F9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EA3F-9D33-4FCA-912A-2F0EBE36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E833-0707-4C47-9826-7BCA4912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6B2C-A39D-44BB-9D88-8259A024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FBB-823E-461E-BCB8-C87EDDA5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952C-4E57-403A-A2B6-1D621EB6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D3F7-A3CA-4B1A-8D61-9F50FD46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1CE-4991-4A9A-A7BD-3FC9708F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9C3E-6EBE-4F51-BDCD-2B33D048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2214-5BAA-4CD0-AAE7-8FEB10115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我獻上自己 (主,我願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我獻上自己 (主,我願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我獻上自己 (主,我願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我獻上自己 (主,我願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:\圣洁活祭\繁体\我獻上自己 (主,我願)\我獻上自己 (主,我願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YC</dc:creator>
  <dc:description/>
  <dc:language>en-US</dc:language>
  <cp:lastModifiedBy>微软中国</cp:lastModifiedBy>
  <dcterms:modified xsi:type="dcterms:W3CDTF">2011-03-23T05:13:1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