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296A-68E6-4913-882F-8F2C99CFB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7469-BAB3-4CFD-A123-346DE68A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42BD-31A2-409F-A113-E4A0E3F56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1422-E83A-41C1-B8BD-B63723389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7BC3-C461-4C41-8C1B-4ED26355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B2BE-D457-4DBA-9A27-19B2558A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EC74-731D-4DFE-92EF-D0D9DA42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D7FD-CF16-4D81-97EF-FBB72F74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6D76-7BF3-4032-B8A4-4FC2AF94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F58B-4A18-4D6E-BCA0-426813B9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CB45-0901-4492-9033-4465BAE0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A465-113E-4D9D-A40A-7DEDCC0E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9C98-F52E-448B-BA95-FC5428437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英\我獻上自己 (主,我願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英\我獻上自己 (主,我願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英\我獻上自己 (主,我願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英\我獻上自己 (主,我願)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E:\圣洁活祭\繁英\我獻上自己 (主,我願)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YYC</dc:creator>
  <dc:description/>
  <dc:language>en-US</dc:language>
  <cp:lastModifiedBy>微软中国</cp:lastModifiedBy>
  <dcterms:modified xsi:type="dcterms:W3CDTF">2011-03-22T15:38:25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