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4DFE-C5CC-481B-AAB6-40D8F14E0F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FD3B-DB0C-4699-BFAE-C6FF7ECCE7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6BE-B74C-4B93-8367-D4CC9FE5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A0B-85AA-4A81-8B6F-43355B8A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B50-1493-4321-8F2B-BCE97DCC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C25-1DA4-45D1-AE9F-94E6C3B3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880D-17A1-48F4-B6A4-C189BDAD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33B-DC84-4EDA-B345-9F795FCD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CB81-249D-4D37-89A4-E642F20F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671-1A63-4F76-AF9E-E9A3DDD7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C3C-338C-48C1-89EF-6122FA5C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2AFA-2E72-4DE8-8650-94EFBBB9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5D2-ACA4-4D7D-B83A-1D9EB2A8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611-CE2E-4B6E-9D19-80055F03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76B4-CD7D-429D-A620-9091220BA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0" name="Picture 2" descr="E:\music\诗歌\PPT\2\鼓舞\我的天父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:\music\诗歌\PPT\2\鼓舞\我的天父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父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E:\music\诗歌\PPT\2\鼓舞\我的天父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的天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:\music\诗歌\PPT\2\鼓舞\我的天父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4T05:03:5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