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B483-B81E-4946-88A1-1A8B403A9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5EA3-7981-40ED-94A8-64A8D8B97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F623-9893-4B7B-801B-A33C829A1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9864-3E3A-428F-B171-9F4FD496C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Savior 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3" descr="em_savior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Savior 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em_savior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Savior 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em_savio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01Z</dcterms:modified>
  <cp:revision>55</cp:revision>
  <dc:subject/>
  <dc:title>我的救主 My Savior</dc:title>
</cp:coreProperties>
</file>