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0833-0BAF-4BEA-9BD9-6E97A612B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38DE-BCA3-4789-B1CE-4AC52BE77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DAED-8739-46FF-BB8B-6939771F7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8942-1539-40CC-B8CA-0909C31FD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94BF-BE1D-4D3F-950A-3DD287E8F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D79E-8623-484D-9C35-C7D0144F2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2092-27FE-4BC6-BAF7-D1A6F3A6E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44C9-D4CD-4C43-AF8C-8BD73F2D0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C76D-4B81-4AFD-B352-8AE438313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9205-F77D-4F4E-B807-B4D1C7F76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E10B-DD65-46EB-B464-F1778B83F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6144-4C41-44F7-B01A-953175301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C90C8-7C21-4DA8-841B-ADD0DC2B0BD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我愿为你去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1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43" name="Picture 2" descr="E:\music\诗歌\PPT\2\我愿意\我愿为你去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我愿为你去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2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E:\music\诗歌\PPT\2\我愿意\我愿为你去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我愿为你去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3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E:\music\诗歌\PPT\2\我愿意\我愿为你去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我愿为你去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4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E:\music\诗歌\PPT\2\我愿意\我愿为你去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3T14:45:33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