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382C-8C6F-4CD7-A2B1-D37BA3ACC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0E8F-1926-405C-B05D-0C88EEF4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F805-A52C-4479-9117-EC5312309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8670-2A6E-4E0A-9B42-1E15BA308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AD12-17F6-4FFC-B328-7E0ECE17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4A72-ACAC-4C45-9B83-C60914FB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445E-CC01-41A5-A2E4-65A09126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073E-AB5E-404D-BB23-CAC1FC24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829C-3F2E-43CE-A8E9-B6E37EFF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DD15-AD78-4C88-AA91-B04C6439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EBE6-2A4B-4EA5-A746-1F05D27E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3D2D-883A-47DC-A476-0F5A8CD5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1248-4E0C-4769-A727-A3303C9FCAD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把握今天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把握今天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把握今天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把握今天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4:53:36Z</dcterms:modified>
  <cp:revision>4</cp:revision>
  <dc:subject/>
  <dc:title>幻灯片 1</dc:title>
</cp:coreProperties>
</file>