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92BE-D8A0-4EBE-BCBE-4F1999F92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C9AF-8851-45EF-8894-779ACF9E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5F95-D0F2-46AB-BC92-5CE669D6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40Z</dcterms:modified>
  <cp:revision>42</cp:revision>
  <dc:subject/>
  <dc:title>把握今天</dc:title>
</cp:coreProperties>
</file>