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CDA15-B3A4-4E5C-9DF1-1A504053E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AADB3-1863-4A58-A04D-A376B2774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E9306-0D6F-4447-AF03-ACD349233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把握今天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ize The Day 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em_today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把握今天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ize The Day 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em_today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49:54Z</dcterms:modified>
  <cp:revision>41</cp:revision>
  <dc:subject/>
  <dc:title>把握今天 Seize The Day</dc:title>
</cp:coreProperties>
</file>