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A7E0A-38A3-44D5-ACF7-979821BDE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10078-F2BB-4E1E-910A-848A612F0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33D1D-020E-4320-B76D-0FEACA070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5CBAC-4715-4C55-A2C2-01630A743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BA039-3C08-4F44-AE0A-1A453E9B2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52447-DD6A-4F32-B86F-23566F2C9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D5118-E781-474A-B95D-9A3495356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80154-03EA-4B24-8A98-6EB28C096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10C21-B86D-4F36-8CF6-B0B63F3A8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D95AA-5276-46D1-AB84-31DB926AA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EEEAE-D1CD-4419-BC1E-8DB1E5151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A1DF4-2588-4B77-9B2E-C76FDEB9C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A98D9-C3F7-485D-B8B9-6D8C59FDF2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救主愛疼的聲（台語）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1" descr="C:\Documents and Settings\Administrator\桌面\主啊,誰人親像祢\繁体\4. 救主愛疼的聲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救主愛疼的聲（台語）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1" descr="C:\Documents and Settings\Administrator\桌面\主啊,誰人親像祢\繁体\4. 救主愛疼的聲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救主愛疼的聲（台語）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3" descr="C:\Documents and Settings\Administrator\桌面\主啊,誰人親像祢\繁体\4. 救主愛疼的聲(台語)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救主愛疼的聲（台語）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" descr="C:\Documents and Settings\Administrator\桌面\主啊,誰人親像祢\繁体\4. 救主愛疼的聲\幻灯片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0-06-13T16:39:20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