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D4B8-9484-463E-96D4-45877282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A59D-0B5C-460B-88F2-08A1E39E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99C5-3949-4296-9A53-FD362D5A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F07E-4920-48F2-8343-F4196BBD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B8B-7234-48D7-ACA9-FF104422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8ED-AEF4-4270-AEE0-F97F4E1F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865-B9F2-4E9D-9A92-5707CF12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8CC-9FFE-4BF9-9602-B3031D2D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C53-369D-4047-A061-5BD42BD1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F6B-970B-40DC-9D5A-9A7DB6BF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221-9253-40D6-8A5C-9C846911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78F-99F8-49E0-B7DD-8C432F8A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46FD353-DA06-484D-BB3E-AB07308158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54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-720" y="2277000"/>
            <a:ext cx="914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5640" y="2061360"/>
            <a:ext cx="91429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I'M NOT ALO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971760" y="64022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0" y="692640"/>
            <a:ext cx="914364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Though few the friends on this way I choose to go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You give me strength to seek out the narrow roa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開我眼睛 看見祢就在這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Help me to see that You're traveling with m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With You I'm safe; with You I'm not alon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"/>
          <p:cNvSpPr/>
          <p:nvPr/>
        </p:nvSpPr>
        <p:spPr>
          <a:xfrm>
            <a:off x="6971760" y="64022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692640"/>
            <a:ext cx="9143640" cy="52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Though few the friends on this way I choose to go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You give me strength to seek out the narrow roa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將愛完全 讓我心一無畏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My love complete, help me cast aside my fear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With You I'm safe; with You I'm not alon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60" name="文本框 3"/>
          <p:cNvSpPr/>
          <p:nvPr/>
        </p:nvSpPr>
        <p:spPr>
          <a:xfrm>
            <a:off x="6950160" y="6382440"/>
            <a:ext cx="24343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0" y="692640"/>
            <a:ext cx="914364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轉向祢 祢已在這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Lord, when I turn to You, You have turned to m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親近祢 祢就與我親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ungsuhChe"/>
              </a:rPr>
              <a:t>When I draw close to You, Already You've drawn cl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尚未求告 祢已應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When my pray'rs are but thoughts, You've answere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使我喜樂滿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In You my joy o'erflows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6971760" y="64022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0" y="765000"/>
            <a:ext cx="9143640" cy="53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Though few the friends on this way I choose to go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You give me strength to seek out the narrow roa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愛既完全 將一切懼怕除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My love's complete, and my heart is free of fear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With You I'm safe; with You I'm not alon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  <Words>444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5:17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