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646F-929E-464D-8170-19BB188F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F69-3AB4-4D27-8C50-6B7C358D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26D-A293-442A-9DC2-533846FA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19F-2888-49F7-8243-E070FA56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EF3F-4A65-4C98-AE5E-1904F73C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DEC-BDC1-4D19-858C-EE2E4AE7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45A-24BF-44B2-A314-16BDE09A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D0E-10EB-4DD1-B663-882F2DD3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9CA-2324-466F-B84B-60D6EE96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39B-F9F2-479D-AC10-AA7E6D7F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5B0-4D8F-4EF4-B642-3DA2D0BD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D22-3E4B-40D5-B6DB-8D368CA6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E879-3832-4685-87F0-E561BFC9A9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你圣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愿你的国降临\荣耀你圣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你圣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荣耀你圣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3:07Z</dcterms:modified>
  <cp:revision>5</cp:revision>
  <dc:subject/>
  <dc:title>幻灯片 1</dc:title>
</cp:coreProperties>
</file>