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A4B5F-EEF9-4DDD-A07B-F5CFAFD81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ABB95-E336-420B-A01D-E3F1EF820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44C66-4109-4C79-B9F7-47CB8A516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2E447-42B8-4717-BF92-1B33BD222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8F34D-31D1-45EF-962F-02CD7CD7D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3B0C5-6AD2-45AA-9AC7-D1A0D311A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DDBD3-509D-4931-8F2B-E36F2D219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12865-ADFF-494B-A6C7-E29A1A3E6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FB4E2-8F71-4325-96B7-2EE544B6A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B1EE0-FE6C-4A29-BF6E-3912AFA78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3F164-8DC0-4148-9F0A-2C3D17C8A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2EBE7-0E51-45E4-A9C6-62D347830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7D923-F10F-4BF9-A32F-2F78706058A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荣耀都归神羔羊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1/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1" descr="E:\music\诗歌\PPT\2\永远\荣耀都归神羔羊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荣耀都归神羔羊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/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1" descr="E:\music\诗歌\PPT\2\永远\荣耀都归神羔羊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9T04:47:40Z</dcterms:created>
  <dc:creator>YYC</dc:creator>
  <dc:description/>
  <dc:language>en-US</dc:language>
  <cp:lastModifiedBy>微软用户</cp:lastModifiedBy>
  <dcterms:modified xsi:type="dcterms:W3CDTF">2010-06-13T15:00:19Z</dcterms:modified>
  <cp:revision>5</cp:revision>
  <dc:subject/>
  <dc:title>幻灯片 1</dc:title>
</cp:coreProperties>
</file>