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056C-264E-44AA-9E6C-A9D9D170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5EE-8C9C-4D81-B3A3-94D26490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F527-61E0-4867-83CB-58D8750F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3Z</dcterms:modified>
  <cp:revision>38</cp:revision>
  <dc:subject/>
  <dc:title>榮耀都歸神羔羊</dc:title>
</cp:coreProperties>
</file>