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A179-91E7-4607-85FA-F44F176B8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8F47-6C46-424B-B7F9-0EFE2D3BB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E770-3B8E-4BC2-81BA-3B957C998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DD2E-3B24-44E5-80D8-B1F00D736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都歸神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ry To The Lamb Of God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em_glor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都歸神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ry To The Lamb Of God 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glor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都歸神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ry To The Lamb Of God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glor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37Z</dcterms:modified>
  <cp:revision>37</cp:revision>
  <dc:subject/>
  <dc:title>榮耀都歸神羔羊 Glory To The Lamb Of God</dc:title>
</cp:coreProperties>
</file>