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5BC-D21F-4994-8E70-1807EB33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3BF-1D36-4CB6-9698-94330D8A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294-81F4-4D31-96DF-F8FCDD5B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532-0D68-4482-AA6F-EC0EC2DF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3BC-ED94-48C0-A460-50302B12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B42-E731-459D-B346-62DA007D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0D6-0D6D-4268-9EE7-EDD1E3D6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693-99B9-4F98-9391-1EACB609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FA1-8A8A-4A6B-99AA-3B03605D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C48-6A8A-45D8-A16F-F979554B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228-5632-43A7-9BA0-4A1AC29F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0C0-5F91-44B3-8D13-8DCCDFCD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B2C0-15A2-4FC4-BFF5-E0B12426E6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永远\永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永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永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永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1:37Z</dcterms:modified>
  <cp:revision>5</cp:revision>
  <dc:subject/>
  <dc:title>幻灯片 1</dc:title>
</cp:coreProperties>
</file>