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14E0-F348-434D-AE64-AD90CAAA6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47A3-A7DB-4677-8683-D3D4F3D7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F814-0EBB-4D50-82D1-062C06A7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7B8-E76C-4C91-8D36-FA6B7434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82B1-5EFC-4F65-88AC-C5B6DF2C0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9Z</dcterms:modified>
  <cp:revision>27</cp:revision>
  <dc:subject/>
  <dc:title>永遠</dc:title>
</cp:coreProperties>
</file>