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F6A-F9D3-424B-92A5-F29F711F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DFF4-F3D4-4F44-9DB1-1F324279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AEB-BDE0-4D44-93D7-74DC118E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140-6BA4-4661-9BE7-CB601636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7F6-7DE0-4247-B465-93C93E50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e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e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0Z</dcterms:modified>
  <cp:revision>26</cp:revision>
  <dc:subject/>
  <dc:title>永遠 Eternity</dc:title>
</cp:coreProperties>
</file>