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造清潔的心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造清潔的心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造清潔的心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12Z</dcterms:modified>
  <cp:revision>12</cp:revision>
  <dc:subject/>
  <dc:title>為我造清潔的心</dc:title>
</cp:coreProperties>
</file>