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9023-F1DA-46A6-A3B2-F052C0560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D6B9-520E-44B5-A376-14D5FBE56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BA04-F8F9-4D2D-8BE0-EDB6F660E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B8BD-6052-47FD-8B60-E668C0016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4FB4-4A54-4454-8F52-8B389CD38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85FC-016C-4D88-9754-3B1FDDDF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5DD0-3017-4999-AE7C-65325F10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BBF0-D53B-44D7-86EC-E3792CC12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7CA4-DFCB-46C4-A9B9-879EDF03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54A9-0211-4474-ABDC-1CBB7B38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FA34-7D73-415A-8E50-AF66B93E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559D-8683-4590-931F-4181B8E4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705E-EADC-4AE8-951E-C6F830B6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D727-1A09-421D-8D00-BE7E0646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2466-9E54-4C6A-BF7F-D27DDC53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0054-562C-4D74-8B8F-47ED9F48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C1DA-2E79-4627-B051-0972A3E8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7396-0822-4B9A-B2E9-83DE75BE4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呼求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her, Unto You I Cry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Documents and Settings\Administrator\桌面\再次将我更新\繁体中英PPT\父啊,我向祢呼求\父啊,我向祢呼求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her, Unto You I Cry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Documents and Settings\Administrator\桌面\再次将我更新\繁体中英PPT\父啊,我向祢呼求\父啊,我向祢呼求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her, Unto You I Cry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istrator\桌面\再次将我更新\繁体中英PPT\父啊,我向祢呼求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her, Unto You I Cry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Administrator\桌面\再次将我更新\繁体中英PPT\父啊,我向祢呼求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3:1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