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668A-804C-4EAE-847A-FCE475E7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B7F-0829-4892-8A18-19223AF4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2E1F-9A6E-474D-AB2C-72DFE4C2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7866-05E0-4CE4-9377-C816D73B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098-9EDE-4B19-9B67-E42EBF1C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 Of Peac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3Z</dcterms:modified>
  <cp:revision>45</cp:revision>
  <dc:subject/>
  <dc:title>片刻的安寧 Moment Of Peace</dc:title>
</cp:coreProperties>
</file>