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6C61-FE20-4913-83EF-31599439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DA91-2E65-4429-ACCC-223E99A3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9FBF-427E-4D82-92C7-A16AFC26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0407-9DCD-4B6C-B250-7DB58957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7F7A-8B80-4ACF-B2B7-325D463A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EE6A-A6FC-48FC-AC82-CB64CFCE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34A3-84E7-487E-963E-60E580C9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CE49-035C-4AA8-BE02-4BE71986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FAF8-5075-467D-9B3D-AFB0C469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B3F7-3147-41AF-9B06-6BF13D6B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FC20-F98E-45B8-AE7D-6DF631BA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80C2-AA85-4E85-9B97-955E9F13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5B23C7E-BD1D-4896-ADEF-AAE563D3C9D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-5040" y="908640"/>
            <a:ext cx="91486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8500" spc="-1" strike="noStrike">
                <a:solidFill>
                  <a:srgbClr val="000000"/>
                </a:solidFill>
                <a:latin typeface="DFKai-SB"/>
                <a:ea typeface="DFKai-SB"/>
              </a:rPr>
              <a:t>祢是我的唯一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"/>
          <p:cNvSpPr/>
          <p:nvPr/>
        </p:nvSpPr>
        <p:spPr>
          <a:xfrm>
            <a:off x="720" y="2611080"/>
            <a:ext cx="91245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劉安淑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7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8" name="文本框 4"/>
          <p:cNvSpPr/>
          <p:nvPr/>
        </p:nvSpPr>
        <p:spPr>
          <a:xfrm>
            <a:off x="0" y="981000"/>
            <a:ext cx="9143640" cy="48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是我的唯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心單單屬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世上無人與祢相比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就是我的唯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3"/>
          <p:cNvSpPr/>
          <p:nvPr/>
        </p:nvSpPr>
        <p:spPr>
          <a:xfrm>
            <a:off x="6516360" y="6402240"/>
            <a:ext cx="2627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祢是我的唯一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1/3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4" name="文本框 3"/>
          <p:cNvSpPr/>
          <p:nvPr/>
        </p:nvSpPr>
        <p:spPr>
          <a:xfrm>
            <a:off x="6516360" y="6402240"/>
            <a:ext cx="2627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祢是我的唯一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2/3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4"/>
          <p:cNvSpPr/>
          <p:nvPr/>
        </p:nvSpPr>
        <p:spPr>
          <a:xfrm>
            <a:off x="0" y="98100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是我的唯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心單單愛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世上無人與祢相比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就是我的唯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0" y="6381000"/>
            <a:ext cx="160488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0" y="981000"/>
            <a:ext cx="914364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將我銘刻掌心永遠不忘記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永遠不離棄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昔在 今在 永在的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愛我一直到永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5"/>
          <p:cNvSpPr/>
          <p:nvPr/>
        </p:nvSpPr>
        <p:spPr>
          <a:xfrm>
            <a:off x="0" y="6381000"/>
            <a:ext cx="160488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6516360" y="6402240"/>
            <a:ext cx="2627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祢是我的唯一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3/3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  <Words>170</Words>
  <Paragraphs>4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8:59Z</dcterms:modified>
  <cp:revision>13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4</vt:r8>
  </property>
</Properties>
</file>