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F45-47D5-4C9D-A81C-B106DCDC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E9D-39E4-4868-BC15-E1080153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C09-AFA1-495A-B840-BF6E5DB8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4CA-B372-4003-8775-55C92490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8F0-EC9F-4543-A29E-E8F243BE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533-5BAB-49E0-89DD-5F6C4F97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D52-1206-48B6-8626-FD067F5F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1AB-ED09-4E42-817B-7F8074FC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EAE-7226-4A24-8ECF-D308CE7F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8C5-64EC-432D-9F9A-79A9E402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437-5858-4480-AEDB-567C46FC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4A2-B674-4DF9-8EE4-D4E13F3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4BE43F5-8B67-492D-8F85-62C9742E71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51120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35640" y="281124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-36360" y="1917000"/>
            <a:ext cx="91429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YOU'RE THE ONE FOR 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762120"/>
            <a:ext cx="9143640" cy="56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心單單屬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ord, my heart beats for You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You? None can compar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</a:t>
            </a:r>
            <a:r>
              <a:rPr b="0" lang="en-US" sz="37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762120"/>
            <a:ext cx="914364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心單單愛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ord, my heart beats for You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You? None can compar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</a:t>
            </a:r>
            <a:r>
              <a:rPr b="0" lang="en-US" sz="37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332640"/>
            <a:ext cx="914364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've engraved me on Your palm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will not forge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will not forsake 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 unchanging through every ag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'll love You eternal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  <Words>271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43Z</dcterms:modified>
  <cp:revision>9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