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我的平安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cf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你是我的平安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19:58Z</dcterms:modified>
  <cp:revision>15</cp:revision>
  <dc:subject/>
  <dc:title>你是我的平安</dc:title>
</cp:coreProperties>
</file>