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C83-7DD1-4FAA-987B-81006AC4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E0E8-1233-431A-909F-D26E52D8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20A1-6583-4D94-A789-B9CE6C2A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180-E8CE-4C67-9AA0-D40A2C18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697-A49A-4DD9-B702-8C82B59E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A0E4-EDD7-444C-A5A5-744AF95F2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2F97-43AD-4D35-96CC-75473620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D69-C29E-437F-9AD0-8640E691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28E9-277C-4F78-ACAF-E5389AF5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BD0-D34A-4CFA-BC72-BBB55820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2419-29B4-4DED-8A8E-FF8DBA96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A7D-912F-4545-8450-B6F9CCA0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8E50-3D12-4E27-BCD2-8F7EC0A900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盟约\你是我神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盟约\你是我神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盟约\你是我神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你是我神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盟约\你是我神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6:12:06Z</dcterms:created>
  <dc:creator>YYC</dc:creator>
  <dc:description/>
  <dc:language>en-US</dc:language>
  <cp:lastModifiedBy>微软用户</cp:lastModifiedBy>
  <dcterms:modified xsi:type="dcterms:W3CDTF">2010-06-13T14:38:30Z</dcterms:modified>
  <cp:revision>4</cp:revision>
  <dc:subject/>
  <dc:title>幻灯片 1</dc:title>
</cp:coreProperties>
</file>