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68B-F380-4C83-867F-36D81288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655-35A9-4F39-914E-57897F9D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4533-5D64-439F-B630-F47AD0E6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EBD-441C-46DC-90EF-F66C68EB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B07-6048-4AA5-90AB-0158F470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EE63-3E2C-41E7-91AA-F54435DB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4B0-5B6A-4F76-822E-9B6A8245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9953-26D6-49EB-B4AC-471B96AE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A7F-2CC6-49BA-A736-11021E7A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5E8-1919-4E6D-A9E0-A444DF76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C97-447A-453C-BA6B-3BEE1A88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4FF1-BA3A-41C6-950F-AEE58C18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990C-6D83-47D1-B859-B4952A8365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你比这一切更美丽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你比这一切更美丽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你比这一切更美丽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你比这一切更美丽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5:18Z</dcterms:modified>
  <cp:revision>4</cp:revision>
  <dc:subject/>
  <dc:title>幻灯片 1</dc:title>
</cp:coreProperties>
</file>