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3A03-A229-4F52-9E10-622028516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17C6-7E3B-4D4B-BEA1-7D3EDB27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0CFB-5066-4306-98E7-DA1396A2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2C83-1B4E-4A62-8F71-864BE4900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282-E303-4528-98A2-FC0060A7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03Z</dcterms:modified>
  <cp:revision>35</cp:revision>
  <dc:subject/>
  <dc:title>你比這一切更美麗</dc:title>
</cp:coreProperties>
</file>