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946-84A6-41E0-A6A3-99779915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544-F01C-4FA9-865A-D6F0F6DD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C64-9DDD-4CD0-8009-64DA23A5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9ACA-A1D2-421A-8AC5-66C31CD6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9A9-A185-46DA-97B8-2298CBE8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21Z</dcterms:modified>
  <cp:revision>33</cp:revision>
  <dc:subject/>
  <dc:title>你比這一切更美麗 You Are More Beautiful Than These</dc:title>
</cp:coreProperties>
</file>