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D4EA-C9E2-47AF-8DDE-CEA3B53E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D1B-7758-479B-B5F3-E8A92411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4FF-CD70-44D1-A74A-B505E831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0C1-40DA-4463-956B-DFC46528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668-4501-46E5-99A3-CE2F2DE0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3847-F20F-4644-81D7-98338E28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3A3-1758-43F2-AFDD-E56C95C9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71FA-C2C7-49EB-8310-80E7E90E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1DBB-1BD8-41DC-9D88-6998BA2F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F4BF-0861-42EB-8650-A1076247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329-C306-47C7-93D9-9090AC79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E1D5-DABF-47B9-9D55-DCC808E1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474C-D46D-4449-A658-C6EC62AF9C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你的爱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你的爱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你的爱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你的爱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2:43Z</dcterms:modified>
  <cp:revision>4</cp:revision>
  <dc:subject/>
  <dc:title>幻灯片 1</dc:title>
</cp:coreProperties>
</file>