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和華的軍隊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和華的軍隊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和華的軍隊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09:49Z</dcterms:modified>
  <cp:revision>46</cp:revision>
  <dc:subject/>
  <dc:title>耶和華的軍隊</dc:title>
</cp:coreProperties>
</file>