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1B0-9984-443C-A3FF-B07914E9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B7F-460D-4C6D-B65A-CC0A3EEB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149-F0FB-4CF6-ACE6-9B67824F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275-2FBB-4881-90AC-A46AD53A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A6F-C374-4DE2-9BE3-B44CA405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12E-1A68-43B1-AF86-640BECA4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50B-C2CF-4BFA-A131-208A228A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B54-CF15-49A9-956A-B68FFEEA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925-53E0-4B3A-88AE-8E529D89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476-5294-47A7-83DC-BB613651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708-5E45-4B97-AC78-2A1791C6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291-B3B3-40DE-A788-E07F579F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D4D7-8AA1-414B-8EE8-95AECDB3E3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耶稣，耶稣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耶稣，耶稣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5:25Z</dcterms:modified>
  <cp:revision>5</cp:revision>
  <dc:subject/>
  <dc:title>幻灯片 1</dc:title>
</cp:coreProperties>
</file>