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3652-7037-4D15-A811-050B7011B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2766-201C-458F-92CE-731D5932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863E-FF8F-4CE9-B6DD-84537B97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E2DD-1D38-48F7-86B9-5BC57317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BF93-CD0C-4FFF-87E8-2EA2DDF3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9390-7D68-42FD-8EDB-638789F4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1FFD-C6A7-4097-8836-F96E0707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0600-CBEA-47B4-9332-F2555446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820A-5603-4D7D-A4BE-FABD6E20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0EE9-EDF7-49ED-9ECA-F6B6441B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D123-0B1B-435F-96DD-03EBD02F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3374-2F7B-4749-BB5E-4563375C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C78D-3F89-4003-BAE1-F875A07B4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爱我，我知影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主啊,誰人親像祢\简体\3. 耶稣爱我,我知影(台语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爱我，我知影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C:\Documents and Settings\Administrator\桌面\主啊,誰人親像祢\简体\3. 耶稣爱我,我知影(台语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爱我，我知影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Documents and Settings\Administrator\桌面\主啊,誰人親像祢\简体\3. 耶稣爱我,我知影(台语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爱我，我知影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C:\Documents and Settings\Administrator\桌面\主啊,誰人親像祢\简体\3. 耶稣爱我,我知影(台语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6:1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