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BE09-242D-4F0C-BFF6-0555089D9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DACB-F721-4E10-B0E7-10C418991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E3F9-83CC-4DDC-BF0B-D93FEF563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CF1E-5595-479A-BE73-DEE4B8C77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371F-DD7C-458F-8AEF-B800161C6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3B25-D39C-4B89-A6B2-69E777175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813D-826A-4B51-BEF6-48A457099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BC72-72B0-4232-BAA5-87C9C53EB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6294-D508-4C3A-86DC-90F40532F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F34C-32E0-4117-8049-9D3801A77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BC5A-E3F1-48E8-8ECD-1A795A617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DCCC-73FB-4820-8FFC-B3BF2D3D5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2FADC-CD8E-4D18-BA1E-92DA86605D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耶穌愛我，我知影（台語）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C:\Documents and Settings\Administrator\桌面\主啊,誰人親像祢\繁体\3. 耶穌愛我,我知影(台語)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耶穌愛我，我知影（台語）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2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3" descr="C:\Documents and Settings\Administrator\桌面\主啊,誰人親像祢\繁体\3. 耶穌愛我,我知影(台語)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耶穌愛我，我知影（台語）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C:\Documents and Settings\Administrator\桌面\主啊,誰人親像祢\繁体\3. 耶穌愛我,我知影(台語)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耶穌愛我，我知影（台語）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" descr="C:\Documents and Settings\Administrator\桌面\主啊,誰人親像祢\繁体\3. 耶穌愛我,我知影(台語)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3T16:40:27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