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C74-115B-479F-8FD6-C0ED92C8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647-D0B5-41BE-BE6A-FF8F9DA2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333-5FF5-40B9-A8AF-2837F50B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527-36D0-4B65-B80F-9557DD19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C20-90C9-4A11-B7BA-2941D6D8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886-EF06-4152-B29B-31F00098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1D5-CA4C-4B0F-B137-15F5546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D57-9FDE-474A-B469-9E50BF1C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F4E-766F-48FD-8053-CBB3867D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B2B-46FB-4053-B7BA-1289EE4B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A1D-3D0E-4147-A303-6B81C96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112-989A-4D96-8C37-9C93017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C527-3990-426B-9CF0-7219AC60B6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花尽一生来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花尽一生来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花尽一生来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19Z</dcterms:modified>
  <cp:revision>4</cp:revision>
  <dc:subject/>
  <dc:title>幻灯片 1</dc:title>
</cp:coreProperties>
</file>