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92E-45B4-4F1A-94EE-4A9587C4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027-3091-4809-950E-74463248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68D-FAA0-4D90-8315-B55D8AA1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5F5-CAB8-40E3-9A70-C1C1C6A6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153-3B1C-4B72-B350-C12D40C4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802-C913-4D90-A7C2-00D079A4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9EF-13C5-48F5-B67E-0DEE9482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217-8903-4E87-A0A4-F849E36F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661-6512-42F2-B9CD-9E09E7FD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6D0-1CEC-4965-B3D0-67229205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485-068A-4CBE-8D21-4E0D59C3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9FE-DBFA-422D-95B7-9D9AB278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7DE4-51B1-447B-A85B-DAF0C12535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诗篇23篇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诗篇23篇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诗篇23篇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6:49Z</dcterms:modified>
  <cp:revision>4</cp:revision>
  <dc:subject/>
  <dc:title>幻灯片 1</dc:title>
</cp:coreProperties>
</file>