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709E-848D-4BA8-8C2F-F91A1064B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BD73-F4F9-4C0F-A405-3DE63198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772C-9BC4-46C5-9733-A5287490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E856-8CF7-4F85-A0A3-C5FC79FEE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B1A2-DE14-43D6-B1CA-F6AF636F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15CA-3499-41A5-B08A-F32183D49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D451-52CD-4707-9935-D223D0CB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27D7-D5F7-431F-86D6-0999B448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4268-A921-4DD7-A32F-683BEECA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01F9-0E8D-4ED9-A7A0-ACD5592C7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4882-6928-415A-9387-BC5DE311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DB1B-235B-4C77-A31C-C82454C2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46B3-EB58-4E76-820C-EC9156C118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谢谢你，耶稣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永远\谢谢你，耶稣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谢谢你，耶稣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永远\谢谢你，耶稣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谢谢你，耶稣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永远\谢谢你，耶稣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谢谢你，耶稣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" descr="E:\music\诗歌\PPT\2\永远\谢谢你，耶稣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4:54:16Z</dcterms:modified>
  <cp:revision>4</cp:revision>
  <dc:subject/>
  <dc:title>幻灯片 1</dc:title>
</cp:coreProperties>
</file>