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1BDFF-387A-46FA-AAC9-79743ECA3F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D37E5-D712-4A1F-9B6B-B3B664F2F1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F7C62-4449-43D7-9B78-6F955EBC65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97187-4DC1-4630-845B-99F0AA4AA4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謝謝祢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耶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m_thankyou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謝謝祢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耶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m_thankyou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謝謝祢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耶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" descr="m_thankyou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5T20:15:44Z</dcterms:created>
  <dc:creator/>
  <dc:description/>
  <dc:language>en-US</dc:language>
  <cp:lastModifiedBy>微软用户</cp:lastModifiedBy>
  <dcterms:modified xsi:type="dcterms:W3CDTF">2010-06-13T14:50:45Z</dcterms:modified>
  <cp:revision>64</cp:revision>
  <dc:subject/>
  <dc:title>謝謝祢, 耶穌</dc:title>
</cp:coreProperties>
</file>