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545C-AA4E-41D9-9487-68DC47A53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2E8D-BED2-47AF-8DB4-28E7785CF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5BBA-E95E-4A5A-993F-0B3BAC40B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1FBD3-00D3-4EB4-B0C1-341D577E2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A6E3-6459-483B-BF6E-E2C778FC8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, Jesus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em_thank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, Jesus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em_thank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, Jesus 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em_thank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, Jesus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em_thankyou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9:58Z</dcterms:modified>
  <cp:revision>65</cp:revision>
  <dc:subject/>
  <dc:title>謝謝祢, 耶穌 Thank You, Jesus</dc:title>
</cp:coreProperties>
</file>