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D62-6459-4D6A-A3CB-EF51AF8F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F04-AF03-415A-8C2C-3BCDD509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8F0-5AF4-45B4-85AD-FBB41B0E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AA0-2330-43EF-8424-FAA4F736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D66-D008-45D9-BDAE-E470D44B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C28-2446-4FE1-B1E9-F57133D6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F9C-6229-49B8-BA10-CCDB1698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9BA8-A76B-4C4A-868F-DF8B64EE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CD4-07B5-43C9-928E-8BB8223C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3E0-1152-46B6-BFEB-8EFD8C1F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6A3-788A-4D1D-AE0D-FA37ABDC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1A12-5A6A-496F-9871-EB9AC6E0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0F66-2E71-4E0C-BCA5-EAC7B7ADF4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进入你的圣所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进入你的圣所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进入你的圣所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进入你的圣所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进入你的圣所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进入你的圣所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2:33Z</dcterms:modified>
  <cp:revision>5</cp:revision>
  <dc:subject/>
  <dc:title>幻灯片 1</dc:title>
</cp:coreProperties>
</file>